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B99-91FE-423C-B781-8C521B83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A24-9B28-425E-8F3D-83714035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D50-F113-4C4D-8F3D-9B84A79F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420-44BC-45D3-959F-5CD86F44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203-47F6-415C-9847-54335BC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686-EE80-4045-8440-93338C19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4D7-732C-4DCF-A463-387BE006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659-2FA0-4ADA-B71A-479BC5E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770-66A1-4F5B-83E2-A5FE4CE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8DF-B668-4340-8C2A-FCDF656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C1B-D75C-451A-8C16-11FEB61E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696-F08D-4A90-AFD9-4A90F20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75FC-4EC8-481D-BB19-C6779F77B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0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圣火伴我走向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0"/>
            <a:ext cx="20574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点燃激情实现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89880" y="5867280"/>
            <a:ext cx="48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高考倒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0914" t="5662" r="26217" b="3779"/>
          <a:stretch/>
        </p:blipFill>
        <p:spPr>
          <a:xfrm>
            <a:off x="2590920" y="12193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181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中国印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舞动的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4800" t="0" r="5601" b="14283"/>
          <a:stretch/>
        </p:blipFill>
        <p:spPr>
          <a:xfrm>
            <a:off x="2133720" y="13716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56386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北京奥运奖牌“金镶玉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88920" y="213372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题口号是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429000"/>
            <a:ext cx="4495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同一个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同一个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One world  one drea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5833" t="25652" r="5833" b="21679"/>
          <a:stretch/>
        </p:blipFill>
        <p:spPr>
          <a:xfrm>
            <a:off x="0" y="1295280"/>
            <a:ext cx="9144000" cy="319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7367" t="74257" r="9393" b="10646"/>
          <a:stretch/>
        </p:blipFill>
        <p:spPr>
          <a:xfrm>
            <a:off x="304920" y="4572000"/>
            <a:ext cx="8610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8880" y="1828800"/>
            <a:ext cx="310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三大球项目上，曾经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获得世界冠军和奥运冠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形成一种精神，激励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人的国家队伍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114800"/>
            <a:ext cx="419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中国国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女子排球队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0920" y="198108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的国球是？中国第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球世界冠军是谁？中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籍的国球世界冠军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03848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乒乓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容国团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江嘉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21400" y="1957320"/>
            <a:ext cx="31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运会比赛项目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些是中国的优势项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559320"/>
            <a:ext cx="4648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乒乓球、羽毛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跳水、射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体操、举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7280" y="175248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奥运圣火将进入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城市的传递，其中广东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有四个城市参与传递圣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四个城市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162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广州、深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惠州、汕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33120" y="1752480"/>
            <a:ext cx="337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奥运会的主办城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北京，而奥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帆船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马术比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协办城市分别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03848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帆船比赛 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青岛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楷体_GB2312"/>
              </a:rPr>
              <a:t>马术比赛 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香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4960" y="19810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主体育场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游泳中心被民众叫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728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_GB2312"/>
              </a:rPr>
              <a:t>鸟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水立方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57600" y="53352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京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奥运会火炬接力标志设计灵感来源于“火凤凰”的概念，主体是两个人共擎奥运圣火奔跑的形象。凤凰是中国古代传说中的鸟中之王，是吉祥、永生的代表，高贵美好的象征。以凤凰的形象作为火炬接力的标志，象征通过火炬接力把北京奥运会吉祥美好的祝福传遍全中国，带给全世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53560" y="203688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的开幕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哪一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8040" y="4191120"/>
            <a:ext cx="493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0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年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月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日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73600" y="730080"/>
            <a:ext cx="2741040" cy="22269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图中勇敢护卫奥运圣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人是谁，她是在哪一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火炬传递中受到攻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奥运圣火还在哪两站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受到严重干扰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3733920"/>
            <a:ext cx="3429000" cy="274536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金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法国巴黎站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英国伦敦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美国旧金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结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4400" y="1219320"/>
            <a:ext cx="4447800" cy="5213160"/>
          </a:xfrm>
          <a:prstGeom prst="rect">
            <a:avLst/>
          </a:prstGeom>
          <a:solidFill>
            <a:srgbClr val="bbe0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北京奥运会火炬在境外的接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在一些国家的城市传递中受到冲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也经受住了风雨的洗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正一步步走向胜利，走向中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她还将登上世界最高峰——珠穆朗玛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创造前所未有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我们为了自己的大学理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更应该点燃自己的斗志，用圣火传递的激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畏炎热，不惧辛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自己的辛勤和努力成就自己人生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流血流汗不流泪，掉皮掉肉不掉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9254" t="0" r="26722" b="0"/>
          <a:stretch/>
        </p:blipFill>
        <p:spPr>
          <a:xfrm>
            <a:off x="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08240" y="762120"/>
            <a:ext cx="24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火炬接力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给我们的启示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58760" y="2057400"/>
            <a:ext cx="2923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凤凰涅磐，浴火重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了理想，要不怕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经一番寒彻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哪得梅花扑鼻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有在辛苦中拼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才能获得能力的提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想赢得高考，必须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487680" cy="426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80840" y="5715000"/>
            <a:ext cx="34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澳大利亚 悉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2646360" cy="426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29680" y="5715000"/>
            <a:ext cx="29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200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年 希腊 雅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-6000"/>
          </a:blip>
          <a:srcRect l="35718" t="0" r="37144" b="0"/>
          <a:stretch/>
        </p:blipFill>
        <p:spPr>
          <a:xfrm>
            <a:off x="2743200" y="1219320"/>
            <a:ext cx="1447920" cy="5333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6000"/>
          </a:blip>
          <a:srcRect l="37370" t="4474" r="42866" b="3171"/>
          <a:stretch/>
        </p:blipFill>
        <p:spPr>
          <a:xfrm>
            <a:off x="3352680" y="1523880"/>
            <a:ext cx="77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05880" y="2133720"/>
            <a:ext cx="485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中国获得奥运会第一枚金牌的是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哪一届奥运会上获得什么项目金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657600"/>
            <a:ext cx="50292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许海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84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洛杉矶奥运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射击项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奥运知识有奖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68760" y="18288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京奥运会火炬的名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7432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祥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7101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奥运火炬接力的口号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724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点燃激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传递梦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9:56Z</dcterms:modified>
  <cp:revision>35</cp:revision>
  <dc:subject>主题班会课件(分28大类): http://shop62905894.taobao.com</dc:subject>
  <dc:title>主题班会课件(分28大类): http://shop62905894.taobao.com</dc:title>
</cp:coreProperties>
</file>